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9E6A-7ACD-4AAE-BC77-622F9CB6E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15AD-A9F5-4C5E-BA01-943E6E216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6CB1-DCDA-4EAD-808B-C5376054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7D9D-1571-4BB3-A95E-AB2F91248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22769-1D9D-4B7E-9EBD-F35E30D93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31CDC-6F2E-44B8-8DAB-A28A8C3E4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36251-E47B-408D-9902-0150F990A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EC9CE-1A32-4586-8B3A-02CFBB06E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2B51-70DD-4FAF-ABF1-D063551A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29430-CA42-4CB3-A3D5-AE1C150ED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78CB5-F7E0-4C8A-BFE4-95463BB5F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4AB-5B98-4F31-8F2B-49D867D1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93A3F-9278-4969-929A-3A39EC32B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03F8-014E-43C2-9295-D03607A94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C3057-DB02-4356-A260-4A8DDF33B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1594C-C86C-425D-AFC0-4707F97DB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2B61-5C9F-4C8F-931C-445301211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AA6-30AC-4372-917B-D6DBCC711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54D75-45B9-4D20-9A82-6AC45F4E5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B26C-25C3-4A52-9978-9ADC19929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144D-BFAB-403F-9A50-991297B87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9A5-2E9A-4A73-8FCA-F364825F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C6CD-5761-43F2-A54C-AB871BF0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A244-5E23-4379-8248-BC0A78AE6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9A855-EC8F-48D9-9AB0-A0DF29928D8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99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9AAF8-D10F-49F7-A00E-0BBA32901FE0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3366"/>
                </a:solidFill>
                <a:latin typeface="Arial"/>
              </a:rPr>
              <a:t>ЛИШНИЙ ВЕС</a:t>
            </a:r>
            <a:endParaRPr b="1" lang="en-US" sz="7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Или как съесть больше, а весить меньше!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ЖЕ ДЕЛАЕТ НАС  ПОЛНЫМИ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28" name=""/>
          <p:cNvGraphicFramePr/>
          <p:nvPr/>
        </p:nvGraphicFramePr>
        <p:xfrm>
          <a:off x="914400" y="1981080"/>
          <a:ext cx="8001000" cy="4343400"/>
        </p:xfrm>
        <a:graphic>
          <a:graphicData uri="http://schemas.openxmlformats.org/drawingml/2006/table">
            <a:tbl>
              <a:tblPr/>
              <a:tblGrid>
                <a:gridCol w="2209680"/>
                <a:gridCol w="2590920"/>
                <a:gridCol w="3200400"/>
              </a:tblGrid>
              <a:tr h="185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ВИД 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АЛОРИЙ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КОЛИЧЕСТВО КАЛОРИЙ В 1 г</a:t>
                      </a:r>
                      <a:endParaRPr b="0" lang="en-US" sz="20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3366"/>
                          </a:solidFill>
                          <a:latin typeface="Arial Black"/>
                        </a:rPr>
                        <a:t>ПРОЦЕНТ ЭНЕРГИИ, НЕОБХОДИМОЙ ДЛЯ ОТЛОЖЕНИЯ В ЖИРОВУЮ ТКАНЬ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ИР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244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УГЛЕВОДЫ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 ккал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3%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>
                      <a:noFill/>
                    </a:lnR>
                    <a:lnT w="5760">
                      <a:solidFill>
                        <a:srgbClr val="003366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ОСНОВНЫЕ ИСТОЧНИКИ ЖИРА В НАШЕМ ПИТАНИИ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2895120"/>
            <a:ext cx="5562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ясо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5943600"/>
            <a:ext cx="74674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3300"/>
                </a:solidFill>
                <a:uFillTx/>
                <a:latin typeface="Arial"/>
              </a:rPr>
              <a:t>Рекомендация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: 3-4 ст. ложки в день растительног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                  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масла для здорового человека достаточно</a:t>
            </a:r>
            <a:endParaRPr b="0" lang="en-US" sz="1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705720" y="2514600"/>
            <a:ext cx="2057400" cy="127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6629400" y="3886200"/>
            <a:ext cx="2057400" cy="10764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4" name=""/>
          <p:cNvGraphicFramePr/>
          <p:nvPr/>
        </p:nvGraphicFramePr>
        <p:xfrm>
          <a:off x="6934320" y="4800600"/>
          <a:ext cx="44136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934320" y="4800600"/>
                    <a:ext cx="44136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" descr=""/>
          <p:cNvPicPr/>
          <p:nvPr/>
        </p:nvPicPr>
        <p:blipFill>
          <a:blip r:embed="rId5"/>
          <a:stretch/>
        </p:blipFill>
        <p:spPr>
          <a:xfrm>
            <a:off x="7086600" y="5716440"/>
            <a:ext cx="1600200" cy="60804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838080" y="411480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Молочные продукты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5302080"/>
            <a:ext cx="586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buClr>
                <a:srgbClr val="003366"/>
              </a:buClr>
              <a:buSzPct val="75000"/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Растительные масла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ФИЗИЧЕСКИЕ УПРАЖНЕНИЯ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315200" y="2438280"/>
            <a:ext cx="990720" cy="812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1381320" cy="167652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7086600" y="5257800"/>
            <a:ext cx="1822320" cy="1243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914400" y="3581280"/>
            <a:ext cx="6705720" cy="19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занятия физкультурой 20 минут 2 раза в день, необходимо снизить потребление калорий только на 17% для достижения того же результат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5181480"/>
            <a:ext cx="6172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лагодаря упражнениям повышается метаболизм и вы теряете вес даже во время отдыха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2438280"/>
            <a:ext cx="6705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тобы сбросить 0,5 кг в неделю необходимо снизить потребление калорий на 28%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ЛУЧШЕ НИКОГДА, ЧЕМ ПОЗДНО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2438280"/>
            <a:ext cx="80010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Активность на протяжении дня способствует сжиганию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оддержание температуры тела требует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Температура тела максимальна в 2-3 часа дня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Вечером температура ниже, чем днём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3366"/>
                </a:solidFill>
                <a:latin typeface="Arial"/>
              </a:rPr>
              <a:t>При снижении активности и температуры тела сжигается меньше калорий</a:t>
            </a:r>
            <a:endParaRPr b="0" lang="en-US" sz="2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5486400"/>
            <a:ext cx="7924680" cy="107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3300"/>
                </a:solidFill>
                <a:latin typeface="Comic Sans MS"/>
              </a:rPr>
              <a:t>«Я никогда не встречал полного человека, который бы не пропускал завтрак и не отказывался от ужина».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  <a:p>
            <a:pPr algn="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80808"/>
                </a:solidFill>
                <a:latin typeface="Times New Roman"/>
              </a:rPr>
              <a:t>Пэт Харпер, доктор Американской Диетической Ассоциации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3657600" y="2438280"/>
            <a:ext cx="2033640" cy="396252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ЧТО ОБЩЕГО У ПОЛНЫХ   ЛЮДЕЙ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25905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плотный ужин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Завтракают мало, или вообще не завтрак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сто перекусываю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Едят быстро, не пережёвывая пищу как следует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е пьют достаточного количества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Малоподвижн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едпочитают пищу из очищенных продукт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Любят жирную пищу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ИВНАЯ ПРОГРАММА СНИЖЕНИЯ ВЕС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2743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Снизьте употребление жиров и очищенной пищи, включите в свой рацион продукты, богатые клетчаткой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Упражняйтесь ежедневно 40 минут в день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Откажитесь от ужина, или сделайте его лёгким и ранним (за 4 часа до сна)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3366"/>
                </a:solidFill>
                <a:latin typeface="Arial"/>
              </a:rPr>
              <a:t>Не перекусывайте, вместо этого пейте воду</a:t>
            </a:r>
            <a:endParaRPr b="0" lang="en-US" sz="2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257800" y="3124080"/>
            <a:ext cx="3598920" cy="346896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66"/>
                </a:solidFill>
                <a:latin typeface="Arial"/>
              </a:rPr>
              <a:t>ОПРЕДЕЛЕНИЯ</a:t>
            </a:r>
            <a:endParaRPr b="1" lang="en-US" sz="4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повышенный вес – 10…19%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ожирение – 20% и больше выше нормы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176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914400" y="2666880"/>
          <a:ext cx="8001000" cy="403380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4-4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6-5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5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9-5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1-5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4-61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5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70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6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6-74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3-67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2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8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"/>
          <p:cNvSpPr/>
          <p:nvPr/>
        </p:nvSpPr>
        <p:spPr>
          <a:xfrm>
            <a:off x="1295280" y="190512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енщ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040600" y="228600"/>
            <a:ext cx="64620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13" dur="1" fill="hold"/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1717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РЕКОМЕНДУЕМЫЙ ВЕС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1905120"/>
            <a:ext cx="35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мужчины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914400" y="2433600"/>
          <a:ext cx="8001000" cy="4271760"/>
        </p:xfrm>
        <a:graphic>
          <a:graphicData uri="http://schemas.openxmlformats.org/drawingml/2006/table">
            <a:tbl>
              <a:tblPr/>
              <a:tblGrid>
                <a:gridCol w="2000160"/>
                <a:gridCol w="2000520"/>
                <a:gridCol w="2000160"/>
                <a:gridCol w="20001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ост,        см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Мал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Средня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Большая комплекция</a:t>
                      </a:r>
                      <a:endParaRPr b="0" lang="en-US" sz="24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5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2-5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6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9-6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5-5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6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8-62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1-6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2-66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4-7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7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5-7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8-7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9-7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2-79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4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3-7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4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1-90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93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6-81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0-88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85-95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086600" y="228600"/>
            <a:ext cx="1752480" cy="14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ИНДЕКС МАССЫ ТЕЛ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828800" y="3648240"/>
            <a:ext cx="5867280" cy="3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 = ВЕС : (РОСТ в МЕТРАХ)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64720" y="3429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743200" y="480060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ИМТ=18.5 до 26.9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СТРАДАЮЩИЕ ОЖИРЕНИЕМ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Имеют в 3 раза больше риск инфар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4 раза больше склонны к повышенному давлению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5 раз чаще болеют диабет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ероятность повышенного уровня холестерина в 5 раз больш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6 раз чаще страдают болезнями желчного пузыря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Чаще болеют раком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Более склонны к депрессии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6629400" y="5029200"/>
            <a:ext cx="1539720" cy="1600200"/>
            <a:chOff x="6629400" y="5029200"/>
            <a:chExt cx="1539720" cy="1600200"/>
          </a:xfrm>
        </p:grpSpPr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6629400" y="5029200"/>
              <a:ext cx="1539720" cy="160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6629400" y="5029200"/>
              <a:ext cx="1539720" cy="1600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lnSpc>
                  <a:spcPct val="100000"/>
                </a:lnSpc>
                <a:spcBef>
                  <a:spcPts val="601"/>
                </a:spcBef>
                <a:buClr>
                  <a:srgbClr val="003366"/>
                </a:buClr>
                <a:buSzPct val="75000"/>
                <a:buFont typeface="Wingdings" charset="2"/>
                <a:buChar char="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1214280" y="2362320"/>
          <a:ext cx="671688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4280" y="2362320"/>
                    <a:ext cx="671688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1371600" y="1143000"/>
            <a:ext cx="7238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19320" y="685800"/>
            <a:ext cx="7467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Arial"/>
              </a:rPr>
              <a:t>Ожирение и риск смертности от рака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ПРОБОВАЛИ СЕСТЬ НА ДИЕТУ?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2743200"/>
            <a:ext cx="8001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3366"/>
                </a:solidFill>
                <a:latin typeface="Arial"/>
              </a:rPr>
              <a:t>«Из 100 человек, садящихся на диету для похудания, 95 набирают свой прежний вес, и даже превышают его, в течение года».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октор Ганс Дэйл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 rot="10200">
            <a:off x="1676160" y="2819520"/>
            <a:ext cx="6095880" cy="22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0082"/>
                    </a:gs>
                    <a:gs pos="100000">
                      <a:srgbClr val="0047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ardvark"/>
              </a:rPr>
              <a:t>СЮРПРИЗ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0082"/>
                  </a:gs>
                  <a:gs pos="100000">
                    <a:srgbClr val="0047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ardvark"/>
              <a:ea typeface="Aardvark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51958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ff3300"/>
                </a:solidFill>
                <a:latin typeface="Arial"/>
              </a:rPr>
              <a:t>ПОЧЕМУ ?</a:t>
            </a:r>
            <a:endParaRPr b="0" lang="en-US" sz="8800" spc="-1" strike="noStrike">
              <a:solidFill>
                <a:srgbClr val="003366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7543800" y="228600"/>
            <a:ext cx="1143000" cy="105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ЭФФЕКТ ВРЕМЕННЫХ            ДИЕТ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для эффективного сжигания жиров необходимо достаточное количество калорий, особенно из углеводов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на недостаточное количество калорий организм реагирует замедлением метаболизм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в ответ на голодание организм начинает расщеплять клетки мышц для восполнения недостающих калорий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при использовании строгих диет и голодании снижение веса происходит в основном за счёт потери мышечной массы и воды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3" dur="5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8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3" dur="500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8T17:41:05Z</dcterms:created>
  <dc:creator>Ostapenco</dc:creator>
  <dc:description/>
  <dc:language>en-US</dc:language>
  <cp:lastModifiedBy>Черевичная Вера Петровна</cp:lastModifiedBy>
  <dcterms:modified xsi:type="dcterms:W3CDTF">2007-01-23T10:13:30Z</dcterms:modified>
  <cp:revision>24</cp:revision>
  <dc:subject/>
  <dc:title>ЛИШНИЙ ВЕС</dc:title>
</cp:coreProperties>
</file>